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D80-B15E-4D68-B074-A143583A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154-1F88-4B36-B15C-201F015C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C8D0D-7E92-49E3-A5DD-60F1844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471F-1DFB-4CAC-A2E1-7991B77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D8FC6-DE28-4C52-8895-D3A001E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FBC4F-C781-4684-99B3-0928A64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96968-0191-4105-985D-F123AAA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0E66-AADF-4514-A330-3856A78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12622-6A28-4A87-98BF-DBECA92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6EF8E-1752-4965-9B89-A148BD69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76D7B-C0F1-4EF0-B1D6-36E30AC2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FFCD1-95AE-443E-879F-E83E9203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BF8-84CB-41B7-90C9-23FD8A93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49EFB-F7E9-4331-A04C-0DC9A3C5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1A20D-193A-44A8-B464-42D27D0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2F329-FFEF-47E3-A761-C030493D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C9E67-B000-422C-9E06-80827680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A0B7-EA12-464F-BBB8-EEE91EC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CE807-4AC1-4350-8B28-CE7E957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B8F1C-0949-44FF-8C01-D83670C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E5633-0CDC-4F51-B2B0-39D507C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D18DE-80B3-4352-99B8-8B0E0073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FD6B0-CB72-477F-8644-BA08926E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AC8-CC8C-4747-9D28-A0921966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6A0B0-FE8E-412D-8971-BFD71572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E9D1-1AE9-4FE4-9BF5-202FEECB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BEDA2-FA4E-4A45-A850-E5A3AACE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8D7E7-0B69-43E6-8F5A-46792FA1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DEB29-A3E2-43B4-A158-F3C57E8F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E3B10-8F65-492F-843F-8E7E97B7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FDDDD-89D8-460C-AC1B-7A572757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685C-CACD-4D7C-822D-90E601C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5907F-0F0B-4EA9-BFEC-3F1D9EDC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4F182-5C9E-4C2E-B6C0-28575E3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BF3A-1650-417E-8E14-37816271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3504-87AB-452C-856C-153C4581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14A5C-49C8-4EF2-BDA0-C370076F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B9E6D-E4B3-45FB-B037-0EEF6C68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78C1B-8095-4CD1-8F71-0A892993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BD6E4-8A03-4AFB-BC95-D2F4DA90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59983-BFB6-463A-A183-DC17C866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20921-20A9-40C6-A41C-31B62810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1614A-5605-46C8-B593-B49D14B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1C86F-5703-42CA-90A7-6E83842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65E14-79A3-4B31-9206-2C07883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D25-E376-472A-B958-F6DEAFF9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70E0E-97A0-43A7-9AFB-A208E844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82A7D-E5E7-43C0-9D90-C8AF0F5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B099B-1CBA-43CD-984D-FBBB342F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EF63E-BF37-4869-A38C-579E50CB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759A-123A-4368-A274-CF7F089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A98-D261-4361-B892-13F7FDD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8CE2-8DCC-47D3-B88D-1D5A03B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A2F-5C40-472D-9986-E167B059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EE9D-6070-42E4-86EC-0DD1B79D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9C6-3BEE-45A0-9E37-EE163E36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E62-9C59-4688-AE5C-B416218B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25BE-4282-4FD9-A9D0-372F242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FBB2-79F9-480D-9B49-5F23BA1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9DB8-459C-4282-A18D-906D6122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1527-B89C-4A96-89A3-F5C24833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57FA-F77E-4887-B0F4-75FC07D5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2609-2929-442A-B453-A4A247E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08A2-7F02-4C4B-8A8D-BCAB8EA2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F89E-82EE-493C-8009-A30CFB10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CEC8-426B-4FD6-8DCA-D32E44AF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4D1F-8267-43D2-BD59-777634C5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CE3-E286-4CBB-9AB4-E97C3B0F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C08C-8960-43C2-8DFF-DB2D764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8E16-9559-42F6-982D-67EBA90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F5F7-6A0A-430A-BEE5-0737417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64DD-9B49-43D0-8296-D64ED90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FD5A-FBDB-4A9C-8F1A-391F0EC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DD33-3E82-45F7-9C2F-DA2C0FB0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CC44-DB7D-4A68-9F2D-69032F2C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467E-ECFF-45B3-9BEF-E26663F6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D90F-4BE0-4ABF-80EE-28F3BF8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B3C3-DFF3-4B32-A6DF-5300793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EB3-AD71-4EE1-9B27-00B9BDD9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2E0C-2C0D-4ED2-87D5-6717FEDE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DFD8-49A5-4778-A2ED-94F0A118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26E1-D015-45D4-A316-B2FED031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BBE2-A7ED-4E0F-8CD5-CFF10CE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BE0C-F3F2-4132-9617-EE0EFEA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946E-4BBD-4DA2-AB33-BAEBB27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D2C6-F421-4B82-B249-248FBE13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4577-F93E-4306-A27B-590AA654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0F8A-474E-4520-B92D-F37BBBD8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D190-C844-4477-8293-A762251B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E88-C57E-4904-BB8D-0058BEB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FA17-E017-4A24-9737-25D7290A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D9FC-1D9E-4635-B644-B9D082C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9FFAD-8D54-43FF-9A1C-D344AEBB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66C7-4B33-4734-B6CF-CFCA0A7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6F35-6B45-431F-A5B0-AA103DF3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24F5-86B8-4633-A076-5752928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8A49-4B3C-41E6-A0B2-EBE80C4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7222-5104-42FE-9D8A-756EF9C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0275-73C7-4A84-BE25-DA0DD3C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91E9-7EE1-4D9F-B1C6-59868943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235-1EA3-440D-A095-7CC8960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729C-BAFD-49BE-9870-4AC73859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27F7-B7E0-4427-94D3-2AF442CF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F6DC9-8C57-4047-B8CA-1978D16B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AA54-E285-40A7-A29B-732B5CB0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D8211-FC5E-435D-93BB-C9FC1C0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939E1-9904-4528-8755-577C8E8E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05371-1DBA-477A-9DBA-CBEAC18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A9B4-9209-486D-AE81-A108583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98362-A3F2-46F0-941E-7D02B67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D60F-38E8-4ED9-9933-78EA6CF8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3D9-8517-4EA7-A240-4B7C2D9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AFE8-4A76-46F2-8A9C-DADD9AC7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2A60-76A4-446C-ADBE-FDB15930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C123-DE30-4604-A9A9-54599772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00085-87E1-4915-AEED-8490663B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2FB2-8DFE-4373-BA96-76D71490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9B41-BFA8-4DFD-8E5C-6E33649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3178-2ED7-4A65-8D9C-DE4DBEC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F4560-9E21-42DB-93AA-61EE600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1D70-F397-4266-98A8-7B093380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2BFD-1D18-4F1A-A7F6-9CC5ACB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A91-BF1D-4AC4-9407-A857AFD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5CC0-1B7F-43B5-B7A1-101565D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48FC-EA56-46B0-853F-323536D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B716-1BF3-40F5-BEC2-5183B0C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B1ED-1A97-48A3-85FE-20A01A48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CFF2B-F43D-4740-A182-3538C9C3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1F969-7ADB-4B10-B754-DFFC1FB8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AA13-1CDA-4419-B15E-18CE370D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7DD8-D863-4344-B296-CA01A6E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5B02-EA96-4A32-A70F-7BD288F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3B33-96A5-4186-8985-48414B13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665-9116-4F8D-A121-F42B0DB9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AF34-FBDA-4054-AF64-C08F519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23006-CD94-4D40-B788-B14B6DE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73D6-AE4D-4781-98D4-8332F261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0740-052B-4F70-9D9D-EDBE094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4423-126D-4AF8-9201-1EBAC47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1E29-A772-46FE-B3B1-04EA51FD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CBBA8-CDA1-4131-AFD8-D17C6EC8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A2CB4-9AB8-47DE-89BA-5C32CAB7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C3E7D-549E-4F15-BAC7-507E2A2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0D2F7-E789-4300-8B70-2E2C3DBB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EF67-339D-473C-BB16-97A4D2A3BC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338-9ADE-4C7B-BFC5-E657B7A581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963F-A8E6-4FD1-A9EF-6D9A098280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A8A6-7BC9-498D-BAD9-D09F8CB542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4C6-8ECF-4F78-8706-F6F1C78B9E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C5D-DF72-490B-AC8E-28CAB6B535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A8C-B872-419B-A036-56A32ECB2E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96E4-9CAF-4F73-B7C7-016BD92177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C1F-2155-46C3-BF2B-EB2610541A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F8A3-3862-4A3C-84AB-B458155DBD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F44-FE04-4B7E-AF34-F3B5D927FB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1E93-3D0F-4923-8C39-36065AB3B6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6 K tebe, Pane, utieka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tebe, Pane, utieka s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dlitbou tvoj ľu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láske svojej vypočuj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ilostivý b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íde v prav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oho by sme mali v sve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oho na nebi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tebe letia prosby naš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hlas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 velebí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íde v prav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erou zrak náš k tebe hľ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trónu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žehnanie očakáv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 tvojej štedr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ríde v prav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7:47Z</dcterms:modified>
  <cp:revision>23</cp:revision>
  <dc:subject/>
  <dc:title>Je veľký náš Pán, on slávy je Kráľ Nech do všetkých strán  spev vrúcnych znie chvál.</dc:title>
</cp:coreProperties>
</file>